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wmf" ContentType="image/x-wmf"/>
  <Override PartName="/ppt/media/image8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6720" y="441972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6F3232-6AF8-4C27-BADD-254AFAD2B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849048D-523B-431F-B12C-5561E5DEC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36720" y="441972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ette méthode favorise ainsi la création d’un effectif engagé et vous permet de vous concentrer sur l’essenti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1EF4E32-E15E-449A-8794-32E038FDD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6720" y="441972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En plus d’être formés pour consacrer plus de temps à des activités à valeur ajoutée (soit 10 % de notre emploi du temps), nous sommes encouragés et socialement incités à le faire, et en sommes récompensé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Nous ne pensons pas à la portion de 90 %. En fait, souvent, nous ne la « voyons » p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Nous sommes formés pour nous concentrer sur </a:t>
            </a:r>
            <a:r>
              <a:rPr b="0" lang="fr-CA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re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 description de travail et </a:t>
            </a:r>
            <a:r>
              <a:rPr b="0" lang="fr-CA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s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 responsabilités. Nous travaillons suivant une structure traditionnelle, soit « en silo 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Rares sont les personnes qui sont formées pour examiner ce qui se passe </a:t>
            </a:r>
            <a:r>
              <a:rPr b="0" i="1" lang="fr-CA" sz="1200" spc="-1" strike="noStrike">
                <a:solidFill>
                  <a:srgbClr val="000000"/>
                </a:solidFill>
                <a:latin typeface="Times New Roman"/>
              </a:rPr>
              <a:t>entre 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les silos et dans </a:t>
            </a:r>
            <a:r>
              <a:rPr b="0" lang="fr-CA" sz="1200" spc="-1" strike="noStrike" u="sng">
                <a:solidFill>
                  <a:srgbClr val="000000"/>
                </a:solidFill>
                <a:uFillTx/>
                <a:latin typeface="Times New Roman"/>
              </a:rPr>
              <a:t>l’ensemble du processus, c’est-à-dire d’un bout à l’autre de celui-ci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, ou qui ont pour fonction de le fa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La nature humaine étant ce qu’elle est, et nos vies, occupées comme elles le sont, nous nous adaptons et nous nous soumettons en nous disant : « Ainsi vont les choses. 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D21EE1A-AEAE-4946-8F8D-29E63E577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6720" y="441972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E470-8CB1-4A19-BD68-BD8CBF312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DD2C-52F5-4567-88BB-9F1D4F64A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60C9-4092-4571-BE96-7D12CAD15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DE4B-B79E-4479-A723-F53F76BB4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9D39-20F4-40B3-9AC3-64BF5D5FD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C9B6-7A3A-4341-AD57-EC26EE8D8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C145-D111-4D60-BC32-0023AB6C8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0F6A-57BD-4A7E-8B7A-660CCE373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CE87-8F94-4324-A23F-2634584CE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DC87-BD09-4935-A996-D11E04991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CA2C-E742-4CEC-85EC-3EA230210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2AAE-1E67-469D-BED8-F19ECA4C2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CA35-FCDC-4362-ACB4-62D6DC4A2F8E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" descr="CISR-Inside-ppt"/>
          <p:cNvPicPr/>
          <p:nvPr/>
        </p:nvPicPr>
        <p:blipFill>
          <a:blip r:embed="rId2"/>
          <a:stretch/>
        </p:blipFill>
        <p:spPr>
          <a:xfrm>
            <a:off x="-36360" y="-27000"/>
            <a:ext cx="914688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IRB-Cover-ppt"/>
          <p:cNvPicPr/>
          <p:nvPr/>
        </p:nvPicPr>
        <p:blipFill>
          <a:blip r:embed="rId2"/>
          <a:stretch/>
        </p:blipFill>
        <p:spPr>
          <a:xfrm>
            <a:off x="0" y="0"/>
            <a:ext cx="9147240" cy="68594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" descr="CISR-Cover-ppt"/>
          <p:cNvPicPr/>
          <p:nvPr/>
        </p:nvPicPr>
        <p:blipFill>
          <a:blip r:embed="rId3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590920"/>
            <a:ext cx="5905440" cy="18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AIPRP</a:t>
            </a:r>
            <a:br>
              <a:rPr sz="36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En quoi consiste l’amélioration des processus opérationnel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09680" y="502884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septembre 20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numéro de diapositive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F8A6-4FA2-448D-B62D-D67D4884C58B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10920" y="2095560"/>
            <a:ext cx="7391160" cy="25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e équipe de mise en œuvre pour chaque amélioration maje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s responsabilités et d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outien de la part des employés affectés à l’APO et du personnel de la CI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748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Arial"/>
              </a:rPr>
              <a:t>Mettre en œuvre le plan d’amélio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5055-F3A5-4D87-9A7C-5A68640879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12000" y="4581360"/>
            <a:ext cx="2592360" cy="136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rebuchet MS"/>
              </a:rPr>
              <a:t>METTRE EN OE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numéro de diapositive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813F-5B0E-4716-AB1A-1EE2A633DC08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180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Mettre à l’essai des solutions et évaluer leur incid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mise à l’essai de solutions est essentielle pour que celles-ci soient fonctionnelles au quotid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valuation de l’incidence de chaque amélioration sur la durée totale du cycle d’octroi de l’asile à la CI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suivi des progrès accomplis quant au respect des délais prévus par la loi pourra ainsi être assu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192C-D2D9-4D25-ACFA-0EFF374A33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1201-F0D9-423F-9D10-2EE77B99202C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Différence entre le présent exercice et les exercices précéd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63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700" spc="-1" strike="noStrike">
                <a:solidFill>
                  <a:srgbClr val="000000"/>
                </a:solidFill>
                <a:latin typeface="Arial"/>
              </a:rPr>
              <a:t>Les délais prévus pour la réforme sont très serrés et prescrivent une démarche méthodiqu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700" spc="-1" strike="noStrike">
                <a:solidFill>
                  <a:srgbClr val="000000"/>
                </a:solidFill>
                <a:latin typeface="Arial"/>
              </a:rPr>
              <a:t>Le processus d’APO s’appuie sur des résultats obtenus par les groupes de travail et lors des remue-méninges dans les bureaux régionaux et vise à recueillir des données qui permettront de prendre, en matière d’amélioration, des décisions qui sont fondées sur des fait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700" spc="-1" strike="noStrike">
                <a:solidFill>
                  <a:srgbClr val="000000"/>
                </a:solidFill>
                <a:latin typeface="Arial"/>
              </a:rPr>
              <a:t>L’APO permet d’évaluer si vous respectez, à l’heure actuelle, les délais prévus pour la réforme et de déterminer ce que vous devez faire pour les observ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700" spc="-1" strike="noStrike">
                <a:solidFill>
                  <a:srgbClr val="000000"/>
                </a:solidFill>
                <a:latin typeface="Arial"/>
              </a:rPr>
              <a:t>L’APO se traduira par un plan d’amélioration détaillé et concret doté de mesur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F96C-D295-4A98-8367-C234F19EC6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4AC5-6820-4425-AB4A-B45C1F24CAF3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3640" y="1989000"/>
            <a:ext cx="806436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Les décisions seront guidées par les données et fondées sur des faits et favoriseront un « processus équitable », ce qui constitue un atout majeur en gestion du change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Remanier les processus pour travailler plus intelligemment; personne ne devrait avoir à travailler plus for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Il ne s’agit pas de supprimer des post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La participation du personnel de première </a:t>
            </a:r>
            <a:br>
              <a:rPr sz="2200"/>
            </a:b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ligne favorise l’engagement de celui-ci </a:t>
            </a:r>
            <a:br>
              <a:rPr sz="2200"/>
            </a:b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dans la mise en place du processus d’AP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Participation du personnel des bureaux </a:t>
            </a:r>
            <a:br>
              <a:rPr sz="2200"/>
            </a:b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régionaux et prise de décision à l’échelle </a:t>
            </a:r>
            <a:br>
              <a:rPr sz="2200"/>
            </a:b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de ces derni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Avantages de l’APO sur le plan hu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FF00-7359-4322-9844-7CC147215A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516720" y="3789360"/>
            <a:ext cx="2449440" cy="2511360"/>
            <a:chOff x="6516720" y="3789360"/>
            <a:chExt cx="2449440" cy="2511360"/>
          </a:xfrm>
        </p:grpSpPr>
        <p:pic>
          <p:nvPicPr>
            <p:cNvPr id="166" name="Picture 4" descr="fair process.jpg"/>
            <p:cNvPicPr/>
            <p:nvPr/>
          </p:nvPicPr>
          <p:blipFill>
            <a:blip r:embed="rId1"/>
            <a:stretch/>
          </p:blipFill>
          <p:spPr>
            <a:xfrm>
              <a:off x="6516720" y="3789360"/>
              <a:ext cx="2449440" cy="251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7" name=""/>
            <p:cNvGrpSpPr/>
            <p:nvPr/>
          </p:nvGrpSpPr>
          <p:grpSpPr>
            <a:xfrm>
              <a:off x="6948360" y="4365360"/>
              <a:ext cx="1729080" cy="1441080"/>
              <a:chOff x="6948360" y="4365360"/>
              <a:chExt cx="1729080" cy="1441080"/>
            </a:xfrm>
          </p:grpSpPr>
          <p:sp>
            <p:nvSpPr>
              <p:cNvPr id="168" name=""/>
              <p:cNvSpPr/>
              <p:nvPr/>
            </p:nvSpPr>
            <p:spPr>
              <a:xfrm>
                <a:off x="7007400" y="4365360"/>
                <a:ext cx="1511280" cy="1441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48360" y="4532040"/>
                <a:ext cx="172908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400" spc="-1" strike="noStrike">
                    <a:solidFill>
                      <a:srgbClr val="000000"/>
                    </a:solidFill>
                    <a:latin typeface="Univers (W1)"/>
                  </a:rPr>
                  <a:t>Processus équitab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BE77-D750-4373-BA27-C11777D82AD4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Content Placeholder 4" descr="questions.jpg"/>
          <p:cNvPicPr/>
          <p:nvPr/>
        </p:nvPicPr>
        <p:blipFill>
          <a:blip r:embed="rId1"/>
          <a:stretch/>
        </p:blipFill>
        <p:spPr>
          <a:xfrm>
            <a:off x="3564000" y="3068640"/>
            <a:ext cx="1923840" cy="1805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FFB6-F145-435A-BA8C-2AD8EFAA4A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Espace réservé du numéro de diapositive 1"/>
          <p:cNvSpPr/>
          <p:nvPr/>
        </p:nvSpPr>
        <p:spPr>
          <a:xfrm>
            <a:off x="6705720" y="6032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52F5-5831-4198-AEAB-564E44AF1F3B}" type="slidenum">
              <a:rPr b="0" lang="fr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9280" y="2205000"/>
            <a:ext cx="73454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27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qu’un ordinateur portatif sur mesure à un prix concurrentiel soit livré à la maison en 48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heur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7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qu’une paire de lunettes de première qualité à un prix concurrentiel soit prête en 60 minut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7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qu’une soumission pour une assurance soit faite en 5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minutes?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7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qu’un passeport soit renouvelé en 24 heures?</a:t>
            </a:r>
            <a:br>
              <a:rPr sz="2200"/>
            </a:br>
            <a:br>
              <a:rPr sz="2200"/>
            </a:br>
            <a:r>
              <a:rPr b="1" lang="fr-CA" sz="2200" spc="-1" strike="noStrike">
                <a:solidFill>
                  <a:srgbClr val="ff0000"/>
                </a:solidFill>
                <a:latin typeface="Arial"/>
              </a:rPr>
              <a:t>Tout cela a été rendu possible grâce à l’amélioration des processus opérationnels (AP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6920" y="1052640"/>
            <a:ext cx="8388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Arial"/>
              </a:rPr>
              <a:t>Quinze ans plus tôt, auriez-vous cru possible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"/>
          <p:cNvPicPr/>
          <p:nvPr/>
        </p:nvPicPr>
        <p:blipFill>
          <a:blip r:embed="rId1"/>
          <a:stretch/>
        </p:blipFill>
        <p:spPr>
          <a:xfrm>
            <a:off x="7956720" y="2276640"/>
            <a:ext cx="877680" cy="301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7" descr="C:\Users\Craig\Desktop\lenscrafters.bmp"/>
          <p:cNvPicPr/>
          <p:nvPr/>
        </p:nvPicPr>
        <p:blipFill>
          <a:blip r:embed="rId2"/>
          <a:stretch/>
        </p:blipFill>
        <p:spPr>
          <a:xfrm>
            <a:off x="7380360" y="3573360"/>
            <a:ext cx="1495440" cy="260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732720" y="5013360"/>
            <a:ext cx="912600" cy="966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451640" y="4365720"/>
            <a:ext cx="1224000" cy="36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BCB8-03D3-48F8-B9E9-324C4B1ACA82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3640" y="2331720"/>
            <a:ext cx="694836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1756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  <a:ea typeface="Arial"/>
              </a:rPr>
              <a:t>Un moyen pratique d’améliorer à la base la rapidité, l’efficacité et la qualité 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354240">
              <a:spcBef>
                <a:spcPts val="60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en misant sur les activités à </a:t>
            </a:r>
            <a:r>
              <a:rPr b="1" lang="fr-CA" sz="3200" spc="-1" strike="noStrike">
                <a:solidFill>
                  <a:srgbClr val="ff0000"/>
                </a:solidFill>
                <a:latin typeface="Arial"/>
                <a:ea typeface="Arial"/>
              </a:rPr>
              <a:t>valeur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ajouté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354240">
              <a:spcBef>
                <a:spcPts val="60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en éliminant les étapes du processus qui n’apportent ri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354240">
              <a:spcBef>
                <a:spcPts val="60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en supprimant les temps d’attente, les retards, les reprises et les actions inutil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354240">
              <a:spcBef>
                <a:spcPts val="60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en levant les entr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E81F-ECFD-4AF7-BF3F-A4FE0E1B2C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éfinition de l’AP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93080" y="1268280"/>
            <a:ext cx="151128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4B01-5F29-4D27-A522-89156A7AAFA3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mploi du « temps » dans une organisation type</a:t>
            </a:r>
            <a:r>
              <a:rPr b="1" lang="en-GB" sz="1600" spc="-1" strike="noStrike" baseline="74000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24000" y="5013360"/>
            <a:ext cx="835164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 u="sng">
                <a:solidFill>
                  <a:srgbClr val="000000"/>
                </a:solidFill>
                <a:uFillTx/>
                <a:latin typeface="Arial"/>
              </a:rPr>
              <a:t>Occasion d’amélioration </a:t>
            </a: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toute activité qui mobilise des ressources sans créer de la vale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Dans la plupart des organisations, environ 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% du temps est consacré à des activités à valeur ajoutée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Dans les organisations de classe mondiale, habituellement de 20 à 25 % du temps est consacré à des activités à valeur ajouté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050920" y="1844640"/>
            <a:ext cx="1871640" cy="503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050920" y="2421000"/>
            <a:ext cx="1871640" cy="25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4391640" y="1916280"/>
            <a:ext cx="35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0 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activités à valeur ajout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4067280" y="350028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90 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ccasions d’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302520" y="450864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Carter, Willie L. </a:t>
            </a:r>
            <a:r>
              <a:rPr b="0" i="1" lang="en-CA" sz="900" spc="-1" strike="noStrike">
                <a:solidFill>
                  <a:srgbClr val="000000"/>
                </a:solidFill>
                <a:latin typeface="Arial"/>
              </a:rPr>
              <a:t>Quality Digest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. 23 juin 2010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4D44-0BFE-4BA5-A4DC-F0522259A0A4}" type="slidenum">
              <a:rPr b="0" lang="fr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02B0-D61F-41B3-BAA9-EDFF4214C2AA}" type="slidenum">
              <a:rPr b="0" lang="fr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125000"/>
            <a:ext cx="8588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Connaître les occasions d’amélioration</a:t>
            </a:r>
            <a:br>
              <a:rPr sz="2800"/>
            </a:b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(portion de 90 %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hart 4"/>
          <p:cNvGraphicFramePr/>
          <p:nvPr/>
        </p:nvGraphicFramePr>
        <p:xfrm>
          <a:off x="1332000" y="1844640"/>
          <a:ext cx="6299280" cy="501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844640"/>
                    <a:ext cx="629928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ce réservé du numéro de diapositive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3BC2-0D80-4715-B736-A2CB997EBB68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16000" y="2133360"/>
            <a:ext cx="7391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ximiser la rapidité du travail de qualité d’un bout à l’autre du processus en éliminant les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entrav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98F6-AB8D-47BE-B5B5-05774DA290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68120" y="-411120"/>
            <a:ext cx="12099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3780000" y="4797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aré 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china-traffic-jam.jpg"/>
          <p:cNvPicPr/>
          <p:nvPr/>
        </p:nvPicPr>
        <p:blipFill>
          <a:blip r:embed="rId1"/>
          <a:stretch/>
        </p:blipFill>
        <p:spPr>
          <a:xfrm>
            <a:off x="539640" y="4221000"/>
            <a:ext cx="3138480" cy="208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Big-Open highway.jpg"/>
          <p:cNvPicPr/>
          <p:nvPr/>
        </p:nvPicPr>
        <p:blipFill>
          <a:blip r:embed="rId2"/>
          <a:stretch/>
        </p:blipFill>
        <p:spPr>
          <a:xfrm>
            <a:off x="5541840" y="4202280"/>
            <a:ext cx="314172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742D-2851-4F46-B1F7-90585C259D02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En quoi l’APO diffère-t-elle des efforts d’amélioration antérieur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Les personnes qui connaissent le mieux les opérations (employés des bureaux régionaux) schématiseront les processus, trouveront les solutions et les mettront à l’essa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La démarche est concrète, et non pas abstraite.  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ilotage : « essai sur route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Les changements dans les processus devront être confirmés avant d’être mis en œuvre : « Montrez-nous les résultats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Le point de départ n’est pas une solution prescrite; les données guideront la prise de déc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l sera possible d’y parvenir dans les délais prév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L’intervention de la TI sera minim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055D-F80E-4EB4-AB39-6F88E4C8B9B7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9280" y="2205000"/>
            <a:ext cx="889344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crire d’un bout à l’autre les processus de la SPR – </a:t>
            </a:r>
            <a:r>
              <a:rPr b="1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la route de 80 p. 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ecenser l’ensemble des 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représenter 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aphiqu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ecourir à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des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des entrev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des données actu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A04F-8691-482B-BDDF-9D0D56AB50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sample vsm 3.jpg"/>
          <p:cNvPicPr/>
          <p:nvPr/>
        </p:nvPicPr>
        <p:blipFill>
          <a:blip r:embed="rId1"/>
          <a:stretch/>
        </p:blipFill>
        <p:spPr>
          <a:xfrm>
            <a:off x="4762440" y="3298680"/>
            <a:ext cx="4130640" cy="2938680"/>
          </a:xfrm>
          <a:prstGeom prst="rect">
            <a:avLst/>
          </a:prstGeom>
          <a:ln w="9360">
            <a:solidFill>
              <a:srgbClr val="89a4a7"/>
            </a:solidFill>
            <a:miter/>
          </a:ln>
        </p:spPr>
      </p:pic>
      <p:sp>
        <p:nvSpPr>
          <p:cNvPr id="129" name="Title 2"/>
          <p:cNvSpPr/>
          <p:nvPr/>
        </p:nvSpPr>
        <p:spPr>
          <a:xfrm>
            <a:off x="250920" y="1197000"/>
            <a:ext cx="889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4600" indent="-44460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bserver</a:t>
            </a:r>
            <a:r>
              <a:rPr b="1" lang="fr-CA" sz="2700" spc="-1" strike="noStrike">
                <a:solidFill>
                  <a:srgbClr val="000000"/>
                </a:solidFill>
                <a:latin typeface="Arial"/>
              </a:rPr>
              <a:t> le processus sur place et le schématis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8"/>
          <p:cNvSpPr/>
          <p:nvPr/>
        </p:nvSpPr>
        <p:spPr>
          <a:xfrm rot="16200000">
            <a:off x="259560" y="3996360"/>
            <a:ext cx="3240000" cy="66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  <a:ea typeface="Calibri"/>
              </a:rPr>
              <a:t>Incidence favor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Fai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r>
              <a:rPr b="1" lang="fr-CA" sz="1400" spc="-1" strike="noStrike">
                <a:solidFill>
                  <a:srgbClr val="000000"/>
                </a:solidFill>
                <a:latin typeface="Arial"/>
                <a:ea typeface="Calibri"/>
              </a:rPr>
              <a:t>Élev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0E4B-EF4D-4D0F-884F-47216F3C6E51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Dresser un plan d’amélioration par priorité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1043-B089-48C1-81F7-407F5E3E77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0" y="75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1332000" y="2637000"/>
            <a:ext cx="560052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178000" y="6005520"/>
            <a:ext cx="4699080" cy="66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Faci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Arial"/>
                <a:ea typeface="Calibri"/>
              </a:rPr>
              <a:t>Diffic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  <a:ea typeface="Calibri"/>
              </a:rPr>
              <a:t>Mise en œ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198160" y="2707920"/>
            <a:ext cx="720" cy="3229200"/>
            <a:chOff x="2198160" y="2707920"/>
            <a:chExt cx="720" cy="3229200"/>
          </a:xfrm>
        </p:grpSpPr>
        <p:cxnSp>
          <p:nvCxnSpPr>
            <p:cNvPr id="138" name="AutoShape 7"/>
            <p:cNvCxnSpPr/>
            <p:nvPr/>
          </p:nvCxnSpPr>
          <p:spPr>
            <a:xfrm>
              <a:off x="2198160" y="2707920"/>
              <a:ext cx="1080" cy="3229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39" name=""/>
            <p:cNvSpPr txBox="1"/>
            <p:nvPr/>
          </p:nvSpPr>
          <p:spPr>
            <a:xfrm>
              <a:off x="2198160" y="2707920"/>
              <a:ext cx="360" cy="322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198520" y="2992320"/>
            <a:ext cx="4821480" cy="2945160"/>
            <a:chOff x="2198520" y="2992320"/>
            <a:chExt cx="4821480" cy="2945160"/>
          </a:xfrm>
        </p:grpSpPr>
        <p:grpSp>
          <p:nvGrpSpPr>
            <p:cNvPr id="141" name=""/>
            <p:cNvGrpSpPr/>
            <p:nvPr/>
          </p:nvGrpSpPr>
          <p:grpSpPr>
            <a:xfrm>
              <a:off x="2198520" y="5936760"/>
              <a:ext cx="4453560" cy="720"/>
              <a:chOff x="2198520" y="5936760"/>
              <a:chExt cx="4453560" cy="720"/>
            </a:xfrm>
          </p:grpSpPr>
          <p:cxnSp>
            <p:nvCxnSpPr>
              <p:cNvPr id="142" name="AutoShape 6"/>
              <p:cNvCxnSpPr/>
              <p:nvPr/>
            </p:nvCxnSpPr>
            <p:spPr>
              <a:xfrm>
                <a:off x="2198520" y="5936760"/>
                <a:ext cx="445392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43" name=""/>
              <p:cNvSpPr txBox="1"/>
              <p:nvPr/>
            </p:nvSpPr>
            <p:spPr>
              <a:xfrm>
                <a:off x="2198520" y="5936760"/>
                <a:ext cx="4453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 Box 5"/>
            <p:cNvSpPr/>
            <p:nvPr/>
          </p:nvSpPr>
          <p:spPr>
            <a:xfrm>
              <a:off x="2482920" y="2992320"/>
              <a:ext cx="199548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0000"/>
                  </a:solidFill>
                  <a:latin typeface="Arial Black"/>
                  <a:ea typeface="Calibri"/>
                </a:rPr>
                <a:t>JOYAU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Black"/>
                  <a:ea typeface="Calibri"/>
                </a:rPr>
                <a:t>Instaurer maintenant en priorité absolu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4"/>
            <p:cNvSpPr/>
            <p:nvPr/>
          </p:nvSpPr>
          <p:spPr>
            <a:xfrm>
              <a:off x="4737240" y="3125880"/>
              <a:ext cx="17794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bacc6"/>
                  </a:solidFill>
                  <a:latin typeface="Arial Black"/>
                  <a:ea typeface="Calibri"/>
                </a:rPr>
                <a:t>Long ter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Calibri"/>
                </a:rPr>
                <a:t>Commencer à planifier maintena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"/>
            <p:cNvSpPr/>
            <p:nvPr/>
          </p:nvSpPr>
          <p:spPr>
            <a:xfrm>
              <a:off x="2482920" y="4643280"/>
              <a:ext cx="18730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b050"/>
                  </a:solidFill>
                  <a:latin typeface="Arial Black"/>
                  <a:ea typeface="Calibri"/>
                </a:rPr>
                <a:t>Choix fac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Calibri"/>
                </a:rPr>
                <a:t>Instaurer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Calibri"/>
                </a:rPr>
                <a:t>en second lie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"/>
            <p:cNvSpPr/>
            <p:nvPr/>
          </p:nvSpPr>
          <p:spPr>
            <a:xfrm>
              <a:off x="4356000" y="4584600"/>
              <a:ext cx="266400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Black"/>
                  <a:ea typeface="Calibri"/>
                </a:rPr>
                <a:t>Moins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0000"/>
                  </a:solidFill>
                  <a:latin typeface="Arial Black"/>
                  <a:ea typeface="Calibri"/>
                </a:rPr>
                <a:t>digne d’intérê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Calibri"/>
                </a:rPr>
                <a:t>Ne pas s’en préoccup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2:15:45Z</dcterms:created>
  <dc:creator>Andrew Milne</dc:creator>
  <dc:description/>
  <dc:language>en-US</dc:language>
  <cp:lastModifiedBy>Mark Jarvis</cp:lastModifiedBy>
  <cp:lastPrinted>2006-06-15T21:11:50Z</cp:lastPrinted>
  <dcterms:modified xsi:type="dcterms:W3CDTF">2013-09-24T12:43:46Z</dcterms:modified>
  <cp:revision>836</cp:revision>
  <dc:subject/>
  <dc:title>PowerPoint Presentation</dc:title>
</cp:coreProperties>
</file>